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0B3-AD31-4A7D-BABB-C0650DC5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B4D-5592-4930-A8F9-56771041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CB4-4646-4E5F-A50B-23A23BA8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022-1ECB-408C-9DEA-872A74AE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A71-9AE9-4096-86B7-7228A4A2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328-8E7D-4D00-BC36-B1AD8E1F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36A-7E36-462B-B6E1-8AC13E12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F27-F18E-4C34-9693-A448D5CE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8ED-2DDF-4F9D-AF27-3EF1B521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42C-A121-4F7C-B706-603A1BE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2C9-FD65-44C5-881C-6DE7836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79A-7AE1-4F11-B92C-CCB6E2C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2C1-452D-4798-91B4-8BEA7BB8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rt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your spelling words.  Sort the words into fou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762120" y="4267080"/>
            <a:ext cx="7543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762120" y="5029200"/>
            <a:ext cx="7543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762120" y="5791320"/>
            <a:ext cx="7543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2362320" y="35812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191120" y="35812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6781680" y="35812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30:07Z</dcterms:created>
  <dc:creator> </dc:creator>
  <dc:description/>
  <dc:language>en-US</dc:language>
  <cp:lastModifiedBy>teacher</cp:lastModifiedBy>
  <dcterms:modified xsi:type="dcterms:W3CDTF">2011-03-05T09:23:07Z</dcterms:modified>
  <cp:revision>2</cp:revision>
  <dc:subject/>
  <dc:title>Sort Words</dc:title>
</cp:coreProperties>
</file>